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AD71-1A68-49AC-86E2-B35DA30A3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ACEC-5E89-403C-80C7-B2C61D8D141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A884-2793-4D4F-9D80-0A1A83C8A44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F630-8220-4478-9B22-96E0F46714F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43A4-1F11-422D-A299-6F440184B2B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BF7E-0173-4A7B-B2AB-0AC5C46C00B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BF5A-67EC-447F-A6EB-F94D144B3B0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AC91-C91D-4515-9DE5-F3E241231CB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1F55-EB39-49B7-8F91-57CF99FC114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5C65-A228-495C-B577-57B053AA523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CHILDREN/PLANNING     THE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EA2C-1EF0-4B4B-80D3-0195B2C8A4F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910-22A9-41EC-8784-7D22B39D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12A-C989-422A-961A-033B2EE5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D4B-6CF3-4B9F-8F0B-AFCD5671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41E-C5A0-4A76-905C-B50E8BD8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742F-D11D-4ECE-9285-38F42808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B759-2EC2-4958-9641-1BC3CA28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F935-9965-4D8D-9473-64AC1F7C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870B-0E36-4144-A49D-AB42EB58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4CBA-BA14-4D7C-9A35-B4B3B296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1E49-159B-44DE-BB11-AF2D6A87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A2DF-825E-4909-A019-ED1C11E0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E37-70E4-4927-97FE-0FC5490D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05AC-4401-4F7B-8A98-B51485B5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6938-88B7-4BB4-88D4-8AC17B3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E6F7-FDD5-4624-9FAF-6FBDBCFB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AB12-8D5B-416F-86F0-DBAA03CF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6B74-2B46-4FE5-8F7D-44452299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B7D-1BF9-4111-BFBE-1A13697E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E01-BF50-4F23-ADD3-BF3E0F5D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5EB-8D22-40AB-BA8C-922EAAFD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325-EB6A-46CE-9D87-878617A0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C86-9B65-4C0C-BAF2-94F3D926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942-9134-497F-A401-147FEA1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41B-18FC-46CC-9079-F70AFCDD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64FE-2FA1-4EB1-9CAA-C7F44B3FF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7A33-4ACA-46A9-9F80-8AB7B0575BA8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inking Through Your Lesson Plan Assignment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Explicit Strategy Instruction, Independent Practice, and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Diverse Response Activitie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Key Principles of Strategy Instruct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 strategies at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ll ages and stag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young children are capable of using 4-5 strategies at the same tim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 a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pertoire of strategi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trategy Packs – p. 35 in your text) RT, QAR, CORI, QtA, etc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ifferentiat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vary instruction to “make skillful adjustments to learner characteristics” (all those things we noted in the LEAD21 series… PARTICULA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sources to Support Your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trategy Instruction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rnett Chapter 2, p. 128-132, and Appendix B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r strategy assessment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ssignmen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rticle by Cathy Collins Block about “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-Aloud Model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for each strategy (see wiki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pter by Jan Richardson about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fferentiating strategie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ith “literal, interpretive, and evaluative” levels of thinking for each strategy (see wiki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ere does explicit strategy instruction fit into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 literacy less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Modeling Strategy Use </a:t>
            </a:r>
            <a:br>
              <a:rPr sz="36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ere is think-aloud in the process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685800" y="1981080"/>
            <a:ext cx="8424720" cy="2514600"/>
            <a:chOff x="685800" y="1981080"/>
            <a:chExt cx="8424720" cy="2514600"/>
          </a:xfrm>
        </p:grpSpPr>
        <p:sp>
          <p:nvSpPr>
            <p:cNvPr id="134" name="Rectangle 4"/>
            <p:cNvSpPr/>
            <p:nvPr/>
          </p:nvSpPr>
          <p:spPr>
            <a:xfrm>
              <a:off x="685800" y="1981080"/>
              <a:ext cx="7848720" cy="251460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35" name="TextBox 5"/>
            <p:cNvSpPr/>
            <p:nvPr/>
          </p:nvSpPr>
          <p:spPr>
            <a:xfrm>
              <a:off x="6705720" y="2137680"/>
              <a:ext cx="2404800" cy="1099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THINK-ALOUD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SCRIPT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00"/>
                  </a:solidFill>
                  <a:latin typeface="Arial"/>
                </a:rPr>
                <a:t>part of…</a:t>
              </a: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 DO: Model/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e, Explain, and Define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ice and apply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strategy purpose before send off to pract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E DO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YOU DO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peer/independent practice in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enter work or seatwork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 DO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apply later in the day in other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ings and content area studies)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37" name="Group 12"/>
          <p:cNvGrpSpPr/>
          <p:nvPr/>
        </p:nvGrpSpPr>
        <p:grpSpPr>
          <a:xfrm>
            <a:off x="6477120" y="3276720"/>
            <a:ext cx="2373120" cy="2212200"/>
            <a:chOff x="6477120" y="3276720"/>
            <a:chExt cx="2373120" cy="2212200"/>
          </a:xfrm>
        </p:grpSpPr>
        <p:sp>
          <p:nvSpPr>
            <p:cNvPr id="138" name="TextBox 7"/>
            <p:cNvSpPr/>
            <p:nvPr/>
          </p:nvSpPr>
          <p:spPr>
            <a:xfrm>
              <a:off x="6477120" y="5029200"/>
              <a:ext cx="237312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LESSON PLAN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cxnSp>
          <p:nvCxnSpPr>
            <p:cNvPr id="139" name="Straight Arrow Connector 9"/>
            <p:cNvCxnSpPr/>
            <p:nvPr/>
          </p:nvCxnSpPr>
          <p:spPr>
            <a:xfrm flipH="1">
              <a:off x="8076600" y="3276720"/>
              <a:ext cx="1080" cy="1753200"/>
            </a:xfrm>
            <a:prstGeom prst="straightConnector1">
              <a:avLst/>
            </a:prstGeom>
            <a:ln w="38160">
              <a:solidFill>
                <a:srgbClr val="33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42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532440" y="1455840"/>
            <a:ext cx="20581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504520" y="2590920"/>
            <a:ext cx="148068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E DO </a:t>
            </a:r>
            <a:br>
              <a:rPr sz="2400"/>
            </a:b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4648320" y="2971800"/>
            <a:ext cx="167616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629400" y="4724280"/>
            <a:ext cx="1676520" cy="45972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Is Guided Reading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mall group time when teachers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show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children how to read an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support them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s they read “independently”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heart of a balanced literacy progra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for students to participate in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ocially supported activity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le constructing mean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ractice/develop reading strategi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tackle books at their “instructional level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for teachers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bserve and suppor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dividual need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here does Guided Reading fit into a balanced literacy program?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33520" y="3505320"/>
            <a:ext cx="7848360" cy="990360"/>
          </a:xfrm>
          <a:prstGeom prst="rect">
            <a:avLst/>
          </a:prstGeom>
          <a:solidFill>
            <a:srgbClr val="ffd1d1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ole Group (Read Aloud/Shared Reading)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experience literary work they cannot yet decode  and participate in higher level text discuss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UIDED READ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Modeling &gt; Practice with books at their reading level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ndependent Reading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enter Activities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 Journals/Discussion Circ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isit &amp; think more deeply about text and co-construct new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uided Reading Across the Grade Level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K-1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Concepts of print; early phonics (letter-sound relationships); intro to gen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Grades 2-3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Integrating reading comprehension and vocabulary strategies across multiple gen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Grade 4-6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Deeper understanding of story elements (plot, characters, theme) &amp; informational texts (key ideas and supporting details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 guided reading less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Pre-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activate background knowledge, introduce challenging concepts, set purpose)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During 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read at instructional level for a purpose with support; silent/oral reading combined with individualized support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Post-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respond to text and apply strategies more independently – with partners or alone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happens during guide reading?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ACHER’s rol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lect appropriate text; introduce (activate background knowledge &amp; introduce challenging vocab, ideas, themes); Set a purpose for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ur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istens in; observes strategy use;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eracts when having difficulty; teaches a mini-lesson that addresses challenge; makes not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fter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vites personal response/discussion, assesses understanding of what is read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escribe the important instructional routines included in explicit strategy instruction (with framework for modeling the what, why, and how of strategy us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view the Lesson Plan Assign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dentify the three important pieces of a good learning objectiv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happens during guide reading?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TUDENT’s rol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5960" y="1980720"/>
            <a:ext cx="8762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gage in conversation about text; ask questions; build expectations; notice info in tex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ur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the whole text or a certain section for a certain purpose (silently or softly when younger); NOT ROUND ROBIN! monitor understanding &amp; apply strategies/request help when problem solv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fter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alk about text; revisit the text; engage in extending and responding to the text (reading and writ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sson Plan Assign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t’s look at Sample Lesson Plan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sson Plan Assignment Handou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sson Plan Templat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Questions?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or your Lesson Plan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ree Criteria for a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arning Objectiv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Usually just one sentence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Precise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cise verbs that reflect the thinking your students will be do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Set a contex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Given…; After…; Before…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Measurab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ill you measure the “quality” (%age or criteria me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art with the top level and work backwards through average and below avera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iven _____, students will _____ (verb and specifics) with (measurable) ____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% accuracy or to a certain leve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ading Proces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What strategy will students apply as they interact with this text?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sponse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How will students respond to the deeper meaning within the text?  (theme, character development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three-column “prediction journal” to make and revise at least two meaningful predictions in chapters 43 &amp; 44 and state the clues they used to make those predictions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“Character Summary” worksheet to describe the personality and physical attributes of an assigned character as well as his/her relationship with Maniac Magee and his/her feelings toward racial segreg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Reading strategy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tudent wil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 and confir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e the key issu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 their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k questions/refl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how the relationship between concep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inferences and support with evide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raw conclus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connections betwee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196560" y="6248520"/>
            <a:ext cx="88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Cornett text and handouts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ading Response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change/growth in charact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to/reflect on “big ideas” or optimistic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by connecting to…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ticing author’s craft (plot, language, etc.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tend with interdisciplinary connections (art, poetry, drama, Internet workshop, journal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Cornett Ch. 9 for other response ideas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1708560" y="6243480"/>
            <a:ext cx="62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textbook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ursday: Book Activity 3 (Cinderella Pre-Class Activities – bring to class with book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r Tuesday, October 20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inish Post-Class reflection for Book Activity 3 (about 30 minute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 Magic Treehouse (about one hou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ook Activity 4 (Five Minute Strategy Script from Magic Treehouse) (one hou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dc4c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662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Moving through the semester with your </a:t>
            </a:r>
            <a:br>
              <a:rPr sz="28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graphic organizer 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96" name="Picture 3" descr="Screen shot 2011-09-19 at 9.00.47 AM.png"/>
          <p:cNvPicPr/>
          <p:nvPr/>
        </p:nvPicPr>
        <p:blipFill>
          <a:blip r:embed="rId1"/>
          <a:stretch/>
        </p:blipFill>
        <p:spPr>
          <a:xfrm>
            <a:off x="622440" y="1192320"/>
            <a:ext cx="8394480" cy="241128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838080" y="4452840"/>
            <a:ext cx="398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3 of 8 Big Idea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bout teaching comprehension and response in elementary schoo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8" name="Picture 5" descr="Screen shot 2011-10-08 at 8.46.26 AM.png"/>
          <p:cNvPicPr/>
          <p:nvPr/>
        </p:nvPicPr>
        <p:blipFill>
          <a:blip r:embed="rId2"/>
          <a:stretch/>
        </p:blipFill>
        <p:spPr>
          <a:xfrm>
            <a:off x="5010120" y="3867120"/>
            <a:ext cx="4133880" cy="2990880"/>
          </a:xfrm>
          <a:prstGeom prst="rect">
            <a:avLst/>
          </a:prstGeom>
          <a:ln w="0">
            <a:noFill/>
          </a:ln>
        </p:spPr>
      </p:pic>
      <p:cxnSp>
        <p:nvCxnSpPr>
          <p:cNvPr id="99" name="Curved Connector 7"/>
          <p:cNvCxnSpPr/>
          <p:nvPr/>
        </p:nvCxnSpPr>
        <p:spPr>
          <a:xfrm>
            <a:off x="3319200" y="3867120"/>
            <a:ext cx="2097360" cy="2160"/>
          </a:xfrm>
          <a:prstGeom prst="curvedConnector5">
            <a:avLst>
              <a:gd name="adj1" fmla="val 49991"/>
              <a:gd name="adj2" fmla="val 40000"/>
              <a:gd name="adj3" fmla="val 49991"/>
            </a:avLst>
          </a:prstGeom>
          <a:ln w="5724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00" name="Straight Arrow Connector 9"/>
          <p:cNvCxnSpPr/>
          <p:nvPr/>
        </p:nvCxnSpPr>
        <p:spPr>
          <a:xfrm flipH="1">
            <a:off x="5638320" y="3862440"/>
            <a:ext cx="16560" cy="177696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dc4c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31920"/>
            <a:ext cx="83455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hat do you notice about how we’ve spent 1/3 of our semester?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99080" y="5950080"/>
            <a:ext cx="22910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Y??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Pie 4"/>
          <p:cNvSpPr/>
          <p:nvPr/>
        </p:nvSpPr>
        <p:spPr>
          <a:xfrm>
            <a:off x="2286000" y="2133720"/>
            <a:ext cx="4653000" cy="4197240"/>
          </a:xfrm>
          <a:prstGeom prst="pi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Pie 5"/>
          <p:cNvSpPr/>
          <p:nvPr/>
        </p:nvSpPr>
        <p:spPr>
          <a:xfrm>
            <a:off x="1981080" y="2133720"/>
            <a:ext cx="5091120" cy="4120920"/>
          </a:xfrm>
          <a:prstGeom prst="pie">
            <a:avLst/>
          </a:prstGeom>
          <a:solidFill>
            <a:srgbClr val="00c1c1"/>
          </a:solidFill>
          <a:ln w="9360">
            <a:solidFill>
              <a:srgbClr val="00c1c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952880" y="3505320"/>
            <a:ext cx="19512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???????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676520" y="4114800"/>
            <a:ext cx="2361960" cy="520560"/>
          </a:xfrm>
          <a:prstGeom prst="rect">
            <a:avLst/>
          </a:prstGeom>
          <a:solidFill>
            <a:srgbClr val="00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?????????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8" name="Picture 8" descr="Screen shot 2011-09-19 at 9.00.47 AM.png"/>
          <p:cNvPicPr/>
          <p:nvPr/>
        </p:nvPicPr>
        <p:blipFill>
          <a:blip r:embed="rId1"/>
          <a:stretch/>
        </p:blipFill>
        <p:spPr>
          <a:xfrm>
            <a:off x="4890960" y="1741320"/>
            <a:ext cx="3648240" cy="1047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Screen shot 2011-10-08 at 8.46.26 AM.png"/>
          <p:cNvPicPr/>
          <p:nvPr/>
        </p:nvPicPr>
        <p:blipFill>
          <a:blip r:embed="rId2"/>
          <a:stretch/>
        </p:blipFill>
        <p:spPr>
          <a:xfrm>
            <a:off x="7367760" y="2847960"/>
            <a:ext cx="1541160" cy="1114560"/>
          </a:xfrm>
          <a:prstGeom prst="rect">
            <a:avLst/>
          </a:prstGeom>
          <a:ln w="0">
            <a:noFill/>
          </a:ln>
        </p:spPr>
      </p:pic>
      <p:cxnSp>
        <p:nvCxnSpPr>
          <p:cNvPr id="110" name="Curved Connector 10"/>
          <p:cNvCxnSpPr/>
          <p:nvPr/>
        </p:nvCxnSpPr>
        <p:spPr>
          <a:xfrm>
            <a:off x="5105160" y="3123720"/>
            <a:ext cx="20962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11" name="Straight Arrow Connector 11"/>
          <p:cNvCxnSpPr/>
          <p:nvPr/>
        </p:nvCxnSpPr>
        <p:spPr>
          <a:xfrm flipH="1">
            <a:off x="7695720" y="4191120"/>
            <a:ext cx="16560" cy="177696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228600" y="18288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licit Teaching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Explicit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: Clear, detailed, and obvious (reading is a process and sometimes it’s hard work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Implicit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: Implied or hidden (reading is a mystery…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Noticing Good Teaching (p. 120-123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MODEL (what, why, &amp; how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DEFINE: 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(WHAT) label the strategy and define in kid term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EXPLAIN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(EXPLAIN WHY) why is it useful and when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(EXPLAIN HOW) Think-aloud: How do you do this? Make your inner voice explicit and obviou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SCAFFOLDED PRACTICE 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(I do, we do, you do, redo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228600" y="1905120"/>
            <a:ext cx="8686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his 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modeling </a:t>
            </a: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ouches on all three types of strategic knowledge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286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EFINE: (WHAT)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abel the strategy and define in kid terms &gt;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DECLARATIVE KNOWLED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LAIN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) why is it useful and whe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ONDITIONAL KNOWLED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) Think-aloud: How do you do this? Make your inner voice explicit and obvious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ROCEDURAL KNOWLED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228600" y="18288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Example of Explicit Strategy Instruction: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Classroom Snapshot Ch. 5 (p. 119-123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01760" y="1906200"/>
            <a:ext cx="822960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DEL (what, why, &amp; how) &gt;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gradually releas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Define </a:t>
            </a:r>
            <a:r>
              <a:rPr b="1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What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oday we’re going to learn about another ‘during reading’ strategy called Image. Image starts just like a word you know: imagination.  It means to make pictures in your heads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Explain </a:t>
            </a:r>
            <a:r>
              <a:rPr b="1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Why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Good readers make images to help connect with characters and to make reading more interesting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Explain </a:t>
            </a:r>
            <a:r>
              <a:rPr b="1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How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et me </a:t>
            </a:r>
            <a:r>
              <a:rPr b="1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show you how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en I read dog, I make an image in my head of a dog…reddish fur…silky…so big…floppy ears…brown eyes…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Notice how I was thinking as I visualized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…what were the visual images I made in my head? Call attention to the chart (color, line, shape, size, texture, smell)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Model again with another exampl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(cat) and walk children through the categories of visual elements.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ry another word – this time with a partner.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28600" y="18288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Another example of Modeling Phase of Explicit Strategy Instruction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0176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MODEL Analyze Strategy (what, why, &amp; how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Define What: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To </a:t>
            </a:r>
            <a:r>
              <a:rPr b="1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analyze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something is to </a:t>
            </a:r>
            <a:r>
              <a:rPr b="1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zoom in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and examine its parts very closely and then </a:t>
            </a:r>
            <a:r>
              <a:rPr b="1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zoom out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to see how everything fits together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lain Why: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n a story, zooming in on the main character’s problems at the beginning and how they are resolved at the end </a:t>
            </a:r>
            <a:r>
              <a:rPr b="1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can help you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better understand the author’s theme. 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lain How: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Let me </a:t>
            </a:r>
            <a:r>
              <a:rPr b="1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hink-aloud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as we revisit Chapter 3…, Chapter 5…and Chapter 9 to zoom in and notice the problem and how the main character deals with the problem. Let’s see how his actions begin to change across the chapters in a way that highlights a message the author is trying to send us about how people deal with the challenges life presents .…(use boxes and chart the problems each chapter….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228600" y="18288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fter Modeling,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caffolded Practi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981080"/>
            <a:ext cx="822960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I DO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(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MODEL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= define and explain, then give a think-aloud example or two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WE DO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=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scaffolded </a:t>
            </a:r>
            <a:r>
              <a:rPr b="1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group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practice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with teacher coaching, listening, offering suggestions, asking questions, cueing, more examples, descriptive feedback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YOU DO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=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scaffolded </a:t>
            </a:r>
            <a:r>
              <a:rPr b="1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independent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practice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with coached directions and then try yourself (with peers, partner, alone) and then questions, cues, feedback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RE DO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=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cued </a:t>
            </a:r>
            <a:r>
              <a:rPr b="1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independent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use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/debriefing (reminder to use strategy elsewhere during the day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21:19:30Z</dcterms:created>
  <dc:creator>Julie Coiro</dc:creator>
  <dc:description/>
  <dc:language>en-US</dc:language>
  <cp:lastModifiedBy>Julie Coiro</cp:lastModifiedBy>
  <cp:lastPrinted>2009-11-10T04:01:33Z</cp:lastPrinted>
  <dcterms:modified xsi:type="dcterms:W3CDTF">2011-10-16T23:12:10Z</dcterms:modified>
  <cp:revision>244</cp:revision>
  <dc:subject/>
  <dc:title>Metacognitive Strategy Instruction to Enhance Reading Comprehension</dc:title>
</cp:coreProperties>
</file>